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70B1-EEC9-40B3-9207-82D820DDDD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5B0A-A305-4DD8-8C54-23DAD4126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AAC0-FD99-4722-ACA6-3EF7AFA10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3C32-76D7-41D8-B9E6-7604760C1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9F27-72FB-4937-AD30-8EAD99D735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D3CE-2BD2-4459-8D26-34AC9C23E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8BF3-058A-4913-BC4C-1ACDDB84F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AA88-AFC6-44C3-93A3-5C2A2B311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4EED-B6EC-47FF-9416-062C0ABAC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F49A-597E-4841-A51B-E627C61DE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6B44-C30D-4B4F-ADEF-7AE52B21D5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93E7-C54A-44CD-B8E1-4A8EAA29C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961A-57E2-4D39-9DA7-4D9B5B2D1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76F1-DC7A-48DA-9517-0DB04C2E7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2A5-12C2-4AE4-B2ED-F1E52BBB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339-3567-4714-98EA-3B3048A3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CB5-B93A-469D-8469-2B360539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57B-CA12-4D53-B9EB-A7423F41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AE67-E966-4DD4-975F-8C68E5C7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29A2-A602-42CE-A752-C8051E69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1E8A-AF9E-4E04-9347-6FAECA39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5CB2-AC4B-46C0-B86F-C22738B8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8AFA-47E9-4FA8-80F6-908A8039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6A4E-A95F-4412-93AA-13CCA73B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32B2-0C1E-48EA-B189-EE562FF0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F61-12D2-4C36-8217-EB9ED398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CF1F-7575-4A65-BAA8-104A10EF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9F19-FDCE-4DDF-9E85-5F9F3624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5314-E0A5-485A-93C9-CE2F5284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27B7-C68B-4954-B4BB-91B1522B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023C-A39D-4028-9A30-9292994D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FDFDF-A929-432A-983F-2C66B9F7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259C-C2C7-4934-A2E6-9D4EC260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DE58-A0CC-466E-B3D6-CADC8853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6BE2D-0872-4E40-8059-388FBF7D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E048E-99AF-4743-B43C-4F5B0374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89A-A919-43C4-9824-6B58C363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6D63-7B49-4A5D-B450-57973E66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5F27A-600C-476D-A2D6-3C1B4EFF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54E0-63D3-41B8-8198-9EFE58E0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17FF7-4EE4-42EC-BCAB-29494E2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5D0E-F978-46EE-8A3E-0CDF2B3D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38EB-BAD9-411A-B533-9D616D2F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0C3C-EE66-4A88-B6C1-9307C028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39CE6-F11B-4027-A173-D2C7A647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3C185-9B07-4666-9256-A8017463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DBA00-9F39-4951-8ADE-27DD3DC3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74C-F862-4247-B682-DA04AFDB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405C1-4F6E-4AF8-B90E-6457182E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BB4F9-7C33-4341-85C0-8FA64F34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81F3-2C84-42B7-99E0-179FFAC6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39877-A1D5-4A8C-9E37-C79BA865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5FD3A-89BE-4AD1-9B7E-98615D9F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8C68-F29A-4825-AB7B-3ED7C10A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66B5E-4B93-49FA-8B63-2749A984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3A78-170E-463E-B168-65EE86E6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51F3E-77DD-4B8F-86F0-EA74ECBC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869CA-B570-471A-A9AD-CD8F0EFF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4AC-954E-434C-92B9-C0745463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6CA42-2959-4099-AB19-87DCE6EE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969D1-CC48-4C25-A3E0-788BAC78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60392-8BBF-40D2-A1A1-BCA589FB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DB187-2B52-43B5-944E-3429AE3C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AB0F3-5E09-4D4D-A58A-CDA7108F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681A-DE5F-4E31-9B5D-D92447F8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410A7-9A78-4353-920A-7AE7B12F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ABE15-2AF8-4BF3-8F18-D8E93146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999F7-EB5E-4F7A-88A7-9093F866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18EBC-F448-47FA-A150-3A35E5F8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6E4-A18F-42DD-8D28-57A19941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FDD02-A6A6-42A4-9022-98CB5458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8A3-055E-47BB-8D1F-6100A8ED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BA2-A8D1-4DBC-8C59-3E943D35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BA7-17FF-4E06-B549-146AE01F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9013-3172-46B4-8AA5-CFD805DD0DA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7C8C-864D-4AC3-84EC-FB191838D8F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990-6039-4FE6-A5DB-38FC30FAB12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5367-D5C9-4266-AFC7-B929593FB97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FD9B-AC42-4A6E-A0F5-823608F9E6C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в системе менеджмента организац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22027"/>
                </a:solidFill>
                <a:latin typeface="Trebuchet MS"/>
              </a:rPr>
              <a:t>Тема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74864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на предприятии выражается в следующих пят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</a:rPr>
              <a:t>функциях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28800" y="2428560"/>
            <a:ext cx="768672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ирование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рганизация выполнения стратегических план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ординация действий по реализации стратегических зада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тивация на достижение стратегических результат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нтроль за процессом выполнения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ущность стратегического управления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оит в формировании и реализации стратегии развития организации на основе непрерывного контроля и оценки происходящих изменений в ее деятельности с целью поддержания способности к выживанию и эффективному функционированию в условиях нестабильной внешней сред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7700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предприятием включа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rebuchet MS"/>
              </a:rPr>
              <a:t>пять основных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, образующих следующую цепь перспективно-целевых решений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Видение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фера бизнеса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Миссия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тратегии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Программы и планы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Процесс стратегического управл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2" descr="процесс стр упр 2.png"/>
          <p:cNvPicPr/>
          <p:nvPr/>
        </p:nvPicPr>
        <p:blipFill>
          <a:blip r:embed="rId1"/>
          <a:stretch/>
        </p:blipFill>
        <p:spPr>
          <a:xfrm>
            <a:off x="1039680" y="2000160"/>
            <a:ext cx="7961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Уровни стратегий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       и         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объекты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стратегического управления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рпоративный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изнес-уровень (конкурентны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й 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риятие в цел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ое поле бизне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е сферы деятель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85920" y="1268280"/>
            <a:ext cx="7400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сылки возникновения стратегического менеджмен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авнение стратегического и оперативн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щность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цесс стратегического управления и его компоне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ровни стратегий и объекты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rebuchet MS"/>
              </a:rPr>
              <a:t>Факторы-условия, определяющие актуальность стратегического управления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ст числа управленческих задач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м географических рамок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ятельности национальных эконом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растание роли высшего звена управл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иление нестабильности внешней сред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1360" y="228600"/>
            <a:ext cx="76150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ческое управление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—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оцесс разработки, принятия и реализации стратегических решений, центральным звеном которого является стратегический выбор, основанный на сопоставлении собственного ресурсного потенциала предприятия с возможностями и угрозами внешнего окру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404280"/>
            <a:ext cx="754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— это заранее спланированная реакция организации на изменение внешней среды, линия ее поведения, выбранная для достижения желаемого результа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00080" y="1600200"/>
          <a:ext cx="7686720" cy="4495680"/>
        </p:xfrm>
        <a:graphic>
          <a:graphicData uri="http://schemas.openxmlformats.org/drawingml/2006/table">
            <a:tbl>
              <a:tblPr/>
              <a:tblGrid>
                <a:gridCol w="2000160"/>
                <a:gridCol w="2643480"/>
                <a:gridCol w="30430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с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а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товаров и услуг с целью получения дохода от их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вание организации в долгосрочной перспективе посредством установления динамичного баланса с окружением, позволяющего решать проблемы заинтересованных в деятельности организации л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нутрь организации, поиск путей более эффективного использования ресур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овне организации, поиск новых возможностей в конкурентной борьбе, отслеживание и адаптация к изменениям в окруж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00080" y="1268280"/>
          <a:ext cx="7697880" cy="5145120"/>
        </p:xfrm>
        <a:graphic>
          <a:graphicData uri="http://schemas.openxmlformats.org/drawingml/2006/table">
            <a:tbl>
              <a:tblPr/>
              <a:tblGrid>
                <a:gridCol w="2000160"/>
                <a:gridCol w="2646360"/>
                <a:gridCol w="30513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фактора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краткосрочную и средне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долго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построения системы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и организационные структуры, процедуры, техника и технолог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системы информационного обеспечения, ры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ход к управлению персон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ресурс организации, как на исполнителей отдельных работ и функ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основу организации, ее главную ценность и источник ее благополу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0080" y="22824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00080" y="2274840"/>
          <a:ext cx="7547040" cy="3079800"/>
        </p:xfrm>
        <a:graphic>
          <a:graphicData uri="http://schemas.openxmlformats.org/drawingml/2006/table">
            <a:tbl>
              <a:tblPr/>
              <a:tblGrid>
                <a:gridCol w="2357640"/>
                <a:gridCol w="2222280"/>
                <a:gridCol w="29671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эффективност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 и рациональность использование производственного потенци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и точность реакция организации на новые запросы рынка и изменения в зависимости от изменения окру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Главная цель стратегического управления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— развитие потенциала и поддержание стратегической способности предприятия к выживанию и эффективному функционированию в ус­ловиях нестабильной внешней сре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8:53:50Z</dcterms:created>
  <dc:creator>User</dc:creator>
  <dc:description/>
  <dc:language>en-US</dc:language>
  <cp:lastModifiedBy>Толя</cp:lastModifiedBy>
  <dcterms:modified xsi:type="dcterms:W3CDTF">2014-12-01T06:54:10Z</dcterms:modified>
  <cp:revision>14</cp:revision>
  <dc:subject/>
  <dc:title>Theme 1</dc:title>
</cp:coreProperties>
</file>